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7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8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8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8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8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8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489420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832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385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1"/>
          </p:nvPr>
        </p:nvSpPr>
        <p:spPr>
          <a:xfrm>
            <a:off x="4398840" y="0"/>
            <a:ext cx="32385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2"/>
          </p:nvPr>
        </p:nvSpPr>
        <p:spPr>
          <a:xfrm>
            <a:off x="0" y="9554760"/>
            <a:ext cx="32385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3"/>
          </p:nvPr>
        </p:nvSpPr>
        <p:spPr>
          <a:xfrm>
            <a:off x="4398840" y="9554760"/>
            <a:ext cx="32385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C1A2E-AD20-47DD-B16A-4C425C58A0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4A913-8A47-41B7-B963-F58B3C71CD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A5B75-9FBC-4275-90B7-2948568EAC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7C4D6-BF3B-4525-854B-04FB4FEA6C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1371600" y="763560"/>
            <a:ext cx="49021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617F9-266D-4C29-B8D9-4B58C34586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1371600" y="763560"/>
            <a:ext cx="49021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318BD-BF15-4425-8D19-86F7D698B7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7FAA0-81BC-49B2-99EB-B556AE3D50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33551-6DA1-4B7A-BC97-9987F81A9C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1371600" y="763560"/>
            <a:ext cx="49039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00573-ADF5-4B4C-A703-7617295ABF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3AAE2-F524-46A2-9C8B-A5890DEF5F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1371600" y="763560"/>
            <a:ext cx="489744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D47D4-F013-48C7-ACD9-2B60DAB5CD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1371600" y="763560"/>
            <a:ext cx="49039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FE32F-D755-461D-8E66-A57EB83773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1371600" y="763560"/>
            <a:ext cx="49039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47545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080" y="2228760"/>
            <a:ext cx="47545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88560" y="84312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080" y="222876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88560" y="222876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15307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59840" y="843120"/>
            <a:ext cx="15307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67240" y="843120"/>
            <a:ext cx="15307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080" y="2228760"/>
            <a:ext cx="15307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59840" y="2228760"/>
            <a:ext cx="15307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67240" y="2228760"/>
            <a:ext cx="15307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080" y="843120"/>
            <a:ext cx="4754520" cy="26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4754520" cy="26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20200" cy="26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88560" y="843120"/>
            <a:ext cx="2320200" cy="26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080" y="-49320"/>
            <a:ext cx="4748040" cy="42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88560" y="843120"/>
            <a:ext cx="2320200" cy="26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080" y="222876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20200" cy="26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88560" y="84312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88560" y="222876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88560" y="84312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080" y="2228760"/>
            <a:ext cx="47545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080" y="843120"/>
            <a:ext cx="4754520" cy="26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1159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9684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29340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4" name="AutoShape 2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Laptop 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November 18,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53352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22256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Power Managemen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48006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0"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are ready for suspend/resu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stable builds have support for sleep on lid close or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4 hours of battery life during normal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-16 hours of battery life in sleep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“Extreme” power savings mode + additional power savings in sleep for non-mesh. (40+ hours of life in sleep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559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Deployment Planning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476244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 Locatio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nee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many schools, how many kids, and how many kids per school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many school off power grid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many hours of usage daily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climate and geography of deployment area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natural resources are availab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559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62440" cy="25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ying power can be a large and difficult challenge in a deployment.  Even in areas with a power 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ck of an established grid increased the difficulty significant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recipe solutions. Each site is u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How Much Power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114800" cy="24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Primary modes of laptop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ging bat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harg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ging bat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 draw of 21 Wat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ser to 26 W w. power factor cor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ha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than 1 Watt in sleep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of 4 – 7 Watts while running w. peaks up to 9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25280"/>
            <a:ext cx="4952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How Much Time to Charge 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7642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est with the Laptop off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ower used to charge 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hour 46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ptop 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ss power used to charge batte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2 and half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Individual solar panel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ing maximum output (full sun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the lap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W charges laptop in 5 hours 15 minu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W charges laptop in 3 hours 45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W charges laptop in 2 hours 40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1120" y="200160"/>
            <a:ext cx="466416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8080"/>
                </a:solidFill>
                <a:latin typeface="Arial"/>
              </a:rPr>
              <a:t>Alternative</a:t>
            </a: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 Power Sourc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0760" y="777600"/>
            <a:ext cx="4937040" cy="26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dividual So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0 Watt solar pa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ly for smallest 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entralized So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gh initial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rge solar panel arrays and charge ctl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 battery storage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verters to minimize distribution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228600" y="0"/>
            <a:ext cx="5176800" cy="36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8080"/>
                </a:solidFill>
                <a:latin typeface="Arial"/>
              </a:rPr>
              <a:t>Alternative Power Sources</a:t>
            </a:r>
            <a:endParaRPr b="1" lang="en-US" sz="26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63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ill needs 2 hours of cran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viable with existing XO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prox 30 Watt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7Ah Lead Acid 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ll charge 2 laptop batteries in 2 h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ass Ro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w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ter, Wind, Pedal,Tread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Multi-Battery Charge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63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s 15 batteries in 2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0 Watt 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 Watt DC option (10 – 28 Volt inpu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1159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Batteries in 2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1159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ion to 2 x 60W solar blanket(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in Q1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 </cp:lastModifiedBy>
  <dcterms:modified xsi:type="dcterms:W3CDTF">2008-12-16T21:27:56Z</dcterms:modified>
  <cp:revision>1</cp:revision>
  <dc:subject/>
  <dc:title>One Laptop per Child</dc:title>
</cp:coreProperties>
</file>